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C6C-3668-4E25-84F3-33C50C47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CCE-BE27-4A78-BF24-FE3F6956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587-B024-4027-88BC-FA13F4EF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7BE-2301-416A-83A3-81DAD9D3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F8FF-3CE6-4099-BA87-BD570CE9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5992-6CB9-4AF5-858B-13ED1DDE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719A-4A59-4264-BC1E-F7A7B88C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662A-951C-4B4B-A115-3B178EFD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C5F8-47E9-4930-9EF8-60716C9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7668-571F-45E6-A5F5-E8190AAC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5E93-1EFB-4242-B6AB-EA3E05DD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106-88FD-431A-99E5-A3A4F0F1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8B16-AD23-4866-8A78-7A2647A8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2A9F-2D1C-48C2-BC5D-B6BBC41D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7F12-EC1B-45AB-8B4B-0BA5F977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44EC-BEB5-4A5A-A8C4-6093AE16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DB72-7837-47B6-B501-2F8E6C8A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CD0-3FEA-4087-94BA-EB769CC2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A62-A695-4CD4-AFA5-16A536F2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C89-8282-4E87-BD49-E7F41930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271-33CF-4CFF-9BD0-3CF2A777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BBF-6265-41AE-957B-C6F56E98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3D2-6225-4430-90CB-C96E65B7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CE2-57C7-4591-A55B-D58EF57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3087-9C3B-4BD5-990C-8F5E118D17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0386-3BE0-41DB-8B4F-3E90DD25CB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y Code of Ethics Pro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 algn="ctr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your code of ethics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Must be 5 sentences long. (May be long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 algn="ctr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a logo that corresponds with your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 algn="ctr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n 8.5 x 11 paper that illustrates your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 algn="ctr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Friday – be prepared to present it to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2:09:50Z</dcterms:created>
  <dc:creator>Lorie Jones</dc:creator>
  <dc:description/>
  <dc:language>en-US</dc:language>
  <cp:lastModifiedBy>ANITAW</cp:lastModifiedBy>
  <dcterms:modified xsi:type="dcterms:W3CDTF">2013-01-28T13:09:45Z</dcterms:modified>
  <cp:revision>2</cp:revision>
  <dc:subject/>
  <dc:title>My Code of Ethics Project</dc:title>
</cp:coreProperties>
</file>